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844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B2D6-54B2-4073-A3E3-D041AB4B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B04B-F989-4B1E-B591-D21CBD2E0EA5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7E14-D7BE-42D7-A842-E828D7010533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BA45-FD60-413F-ACCA-38FDA79CA644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1268-2EE5-4351-AB9B-60B7AA13C14F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4B9-6F3E-40C8-954B-4DF8F93DE135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A51-CEF9-418F-AD82-5043A6A1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CE3-2288-46BA-8DB2-41482DC0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675-7C99-4B83-8AD1-7C16FCF9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3E5-252F-4375-9E10-7E93DEA7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83A9-0DA1-40B5-B84B-162D6BD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920-CD41-4246-B021-70B43A0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C60A-9B68-4A84-B60A-299ADEA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80E-5328-4844-B61C-8EE29E8B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A1EC-EDC3-4FCB-8244-9450A02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6B99-3AEF-4715-B742-854D9B1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E35-7A14-4358-9C58-A661192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A0F-7B35-4568-8871-AE11C78D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FEE-1927-4ED5-99DB-3F2B245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5B8D-1803-46F5-85BA-A62FC09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1AC-C8F6-43B1-9682-02F65ECE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3F8C-D9C9-4C3F-AFE7-ED8968B1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C05D-E8AC-44E1-A470-8300DBA0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FBE-15FE-4C04-A37A-33F26FF3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257-F2E7-44DE-B549-59F0AB08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7FE-5F97-4D48-A27B-BB375662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70A-489A-40E6-9796-089F15B2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26A-F157-45CD-8E57-78629C6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CE6-C289-4231-B6CE-22A2C5F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3E3-497A-46AB-A585-1E9AC5D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025D-7F04-4287-A03B-8F3DF875B3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85CD-7DF1-4EA9-9190-EE1324DED1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put Prediction Logic (OP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CE632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556272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ukasz Szafaryn and Blake Sherida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04 Dec 07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7200" y="1447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primarily affects the pull-up and pull-down of outputs shortly after CLK goes high (eval)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NMOS causes an output’s fall to zero to take too long, resulting in a loss of speed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PMOS results in a slower pull up, though the effect is less pronounc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2" name="Picture 2" descr="C:\Users\Gracjan\Desktop\cl_adder_1bit_B_OPL\snapshot2glitch.png"/>
          <p:cNvPicPr/>
          <p:nvPr/>
        </p:nvPicPr>
        <p:blipFill>
          <a:blip r:embed="rId1"/>
          <a:srcRect l="38645" t="60584" r="26028" b="24423"/>
          <a:stretch/>
        </p:blipFill>
        <p:spPr>
          <a:xfrm>
            <a:off x="304920" y="91440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Gracjan\Desktop\cl_adder_1bit_B_OPL\snapshot2glitchSmall.png"/>
          <p:cNvPicPr/>
          <p:nvPr/>
        </p:nvPicPr>
        <p:blipFill>
          <a:blip r:embed="rId2"/>
          <a:srcRect l="40225" t="78227" r="27974" b="5900"/>
          <a:stretch/>
        </p:blipFill>
        <p:spPr>
          <a:xfrm>
            <a:off x="304920" y="259092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Gracjan\Desktop\cl_adder_1bit_B_OPL\snapshot2glitchBig.png"/>
          <p:cNvPicPr/>
          <p:nvPr/>
        </p:nvPicPr>
        <p:blipFill>
          <a:blip r:embed="rId3"/>
          <a:srcRect l="35927" t="60584" r="30749" b="23539"/>
          <a:stretch/>
        </p:blipFill>
        <p:spPr>
          <a:xfrm>
            <a:off x="304920" y="4191120"/>
            <a:ext cx="426708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9"/>
          <p:cNvSpPr/>
          <p:nvPr/>
        </p:nvSpPr>
        <p:spPr>
          <a:xfrm>
            <a:off x="4724280" y="1447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varianc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724280" y="46483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n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724280" y="3048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p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4479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is an interesting concept and an addition to traditional static log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can be applied to digital circuits to improve their speed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OPL to complex circuits is challenging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variation has a small effect on OPL performance – non-ideal transistors will slow down the circui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9907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Murchie, L., Kio, S., Yee, G., Thorp, T., &amp; Sechen, C. (2000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put Prediction Logic: a High-Performance CMOS Desig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n, S., McMurchie, L., &amp; Sechen, C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64-bit Adder Implemented in Output Predi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Nish, R. , &amp; Nalam, S. (2003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Performance Lo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 64 bit OPL-Static Ad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4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n, Y., McMurchie, L., &amp; Sechen, C. (2005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CMOS Programmable Logic Co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MCj04077340000[1]"/>
          <p:cNvPicPr/>
          <p:nvPr/>
        </p:nvPicPr>
        <p:blipFill>
          <a:blip r:embed="rId1"/>
          <a:stretch/>
        </p:blipFill>
        <p:spPr>
          <a:xfrm>
            <a:off x="2971800" y="1143000"/>
            <a:ext cx="297504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ogic Famil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PL Work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bit CLA Adder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Variation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ze ourselves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a high-speed adder using OPL 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ethodologies for designing OPL circuit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effects of process variation on the adder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ew Logic Famil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105520" y="2743200"/>
            <a:ext cx="26668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209680" y="4800600"/>
            <a:ext cx="266724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redictio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2819160" y="3886200"/>
            <a:ext cx="22860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95280" y="2743200"/>
            <a:ext cx="26672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00400" y="990720"/>
            <a:ext cx="266688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2590560" y="2133720"/>
            <a:ext cx="144756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105520" y="2133720"/>
            <a:ext cx="129528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038480" y="3886200"/>
            <a:ext cx="243864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81760" cy="2352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ow OPL 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886200" y="914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627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3915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1" name="Straight Arrow Connector 8"/>
          <p:cNvCxnSpPr/>
          <p:nvPr/>
        </p:nvCxnSpPr>
        <p:spPr>
          <a:xfrm flipH="1">
            <a:off x="388548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TextBox 10"/>
          <p:cNvSpPr/>
          <p:nvPr/>
        </p:nvSpPr>
        <p:spPr>
          <a:xfrm>
            <a:off x="380880" y="9144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recharg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3" name="Straight Arrow Connector 12"/>
          <p:cNvCxnSpPr/>
          <p:nvPr/>
        </p:nvCxnSpPr>
        <p:spPr>
          <a:xfrm flipH="1">
            <a:off x="55620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4" name="Straight Arrow Connector 13"/>
          <p:cNvCxnSpPr/>
          <p:nvPr/>
        </p:nvCxnSpPr>
        <p:spPr>
          <a:xfrm flipH="1">
            <a:off x="73908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extBox 14"/>
          <p:cNvSpPr/>
          <p:nvPr/>
        </p:nvSpPr>
        <p:spPr>
          <a:xfrm>
            <a:off x="533520" y="1600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>
            <a:off x="1066680" y="2057040"/>
            <a:ext cx="6105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0"/>
          <p:cNvSpPr/>
          <p:nvPr/>
        </p:nvSpPr>
        <p:spPr>
          <a:xfrm>
            <a:off x="380880" y="4267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valuat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457200" y="365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9" name="Straight Arrow Connector 18"/>
          <p:cNvCxnSpPr/>
          <p:nvPr/>
        </p:nvCxnSpPr>
        <p:spPr>
          <a:xfrm flipV="1">
            <a:off x="1065600" y="2894760"/>
            <a:ext cx="762840" cy="839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TextBox 4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8769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3" name="Straight Arrow Connector 8"/>
          <p:cNvCxnSpPr/>
          <p:nvPr/>
        </p:nvCxnSpPr>
        <p:spPr>
          <a:xfrm flipV="1">
            <a:off x="3351600" y="3047760"/>
            <a:ext cx="229320" cy="121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TextBox 10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5" name="Straight Arrow Connector 12"/>
          <p:cNvCxnSpPr/>
          <p:nvPr/>
        </p:nvCxnSpPr>
        <p:spPr>
          <a:xfrm flipV="1">
            <a:off x="5180400" y="3047400"/>
            <a:ext cx="2293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Straight Arrow Connector 13"/>
          <p:cNvCxnSpPr/>
          <p:nvPr/>
        </p:nvCxnSpPr>
        <p:spPr>
          <a:xfrm flipV="1">
            <a:off x="7161840" y="3123360"/>
            <a:ext cx="22932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TextBox 14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28195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55308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ock Synchron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ion in each stage is triggered by clock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6496" t="51783" r="35790" b="34346"/>
          <a:stretch/>
        </p:blipFill>
        <p:spPr>
          <a:xfrm>
            <a:off x="1523880" y="914400"/>
            <a:ext cx="5562720" cy="17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17657" t="13086" r="55370" b="62253"/>
          <a:stretch/>
        </p:blipFill>
        <p:spPr>
          <a:xfrm>
            <a:off x="1066680" y="2971800"/>
            <a:ext cx="33339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rcRect l="16887" t="62423" r="56140" b="12921"/>
          <a:stretch/>
        </p:blipFill>
        <p:spPr>
          <a:xfrm>
            <a:off x="5029200" y="297180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16-bit CLA Ad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2" descr="C:\Users\Gracjan\Desktop\16bit_adder.jpg"/>
          <p:cNvPicPr/>
          <p:nvPr/>
        </p:nvPicPr>
        <p:blipFill>
          <a:blip r:embed="rId1"/>
          <a:stretch/>
        </p:blipFill>
        <p:spPr>
          <a:xfrm>
            <a:off x="4419720" y="762120"/>
            <a:ext cx="4419360" cy="3562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Gracjan\Desktop\4bit_adder.jpg"/>
          <p:cNvPicPr/>
          <p:nvPr/>
        </p:nvPicPr>
        <p:blipFill>
          <a:blip r:embed="rId2"/>
          <a:srcRect l="18421" t="14084" r="15789" b="10814"/>
          <a:stretch/>
        </p:blipFill>
        <p:spPr>
          <a:xfrm>
            <a:off x="304920" y="2438280"/>
            <a:ext cx="3892320" cy="358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Gracjan\Desktop\1_cl_adder.jpg"/>
          <p:cNvPicPr/>
          <p:nvPr/>
        </p:nvPicPr>
        <p:blipFill>
          <a:blip r:embed="rId3"/>
          <a:srcRect l="13158" t="29321" r="9652" b="26055"/>
          <a:stretch/>
        </p:blipFill>
        <p:spPr>
          <a:xfrm>
            <a:off x="380880" y="762120"/>
            <a:ext cx="3124440" cy="145548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51"/>
          <p:cNvSpPr/>
          <p:nvPr/>
        </p:nvSpPr>
        <p:spPr>
          <a:xfrm rot="3220200">
            <a:off x="392040" y="25621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Right Arrow 52"/>
          <p:cNvSpPr/>
          <p:nvPr/>
        </p:nvSpPr>
        <p:spPr>
          <a:xfrm rot="18763200">
            <a:off x="4027320" y="2352960"/>
            <a:ext cx="1133280" cy="2761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Rounded Rectangle 53"/>
          <p:cNvSpPr/>
          <p:nvPr/>
        </p:nvSpPr>
        <p:spPr>
          <a:xfrm>
            <a:off x="1371600" y="34290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ounded Rectangle 54"/>
          <p:cNvSpPr/>
          <p:nvPr/>
        </p:nvSpPr>
        <p:spPr>
          <a:xfrm>
            <a:off x="5029200" y="152388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-bit CLA Adde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2" descr="C:\Users\Gracjan\Desktop\cl_adder_1bit_B\snapshot1.png"/>
          <p:cNvPicPr/>
          <p:nvPr/>
        </p:nvPicPr>
        <p:blipFill>
          <a:blip r:embed="rId1"/>
          <a:srcRect l="2252" t="77401" r="4056" b="0"/>
          <a:stretch/>
        </p:blipFill>
        <p:spPr>
          <a:xfrm>
            <a:off x="609480" y="762120"/>
            <a:ext cx="7925040" cy="12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Gracjan\Desktop\cl_adder_1bit_B_OPL\snapshot1.png"/>
          <p:cNvPicPr/>
          <p:nvPr/>
        </p:nvPicPr>
        <p:blipFill>
          <a:blip r:embed="rId2"/>
          <a:srcRect l="0" t="60584" r="0" b="0"/>
          <a:stretch/>
        </p:blipFill>
        <p:spPr>
          <a:xfrm>
            <a:off x="533520" y="2133720"/>
            <a:ext cx="8153280" cy="2133360"/>
          </a:xfrm>
          <a:prstGeom prst="rect">
            <a:avLst/>
          </a:prstGeom>
          <a:ln w="0">
            <a:noFill/>
          </a:ln>
        </p:spPr>
      </p:pic>
      <p:sp>
        <p:nvSpPr>
          <p:cNvPr id="146" name="Oval 9"/>
          <p:cNvSpPr/>
          <p:nvPr/>
        </p:nvSpPr>
        <p:spPr>
          <a:xfrm>
            <a:off x="2133720" y="762120"/>
            <a:ext cx="76176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3581280" y="762120"/>
            <a:ext cx="76212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8" name="Picture 6" descr="C:\Users\Gracjan\Desktop\cl_adder_1bit_B_OPL\snapshot1glitch.png"/>
          <p:cNvPicPr/>
          <p:nvPr/>
        </p:nvPicPr>
        <p:blipFill>
          <a:blip r:embed="rId3"/>
          <a:srcRect l="40538" t="60584" r="29813" b="23539"/>
          <a:stretch/>
        </p:blipFill>
        <p:spPr>
          <a:xfrm>
            <a:off x="533520" y="5257800"/>
            <a:ext cx="2286000" cy="87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Users\Gracjan\Desktop\cl_adder_1bit_B_OPL\snapshot2glitch.png"/>
          <p:cNvPicPr/>
          <p:nvPr/>
        </p:nvPicPr>
        <p:blipFill>
          <a:blip r:embed="rId4"/>
          <a:srcRect l="45086" t="60584" r="29014" b="23539"/>
          <a:stretch/>
        </p:blipFill>
        <p:spPr>
          <a:xfrm>
            <a:off x="3124080" y="5257800"/>
            <a:ext cx="2057400" cy="90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Gracjan\Desktop\cl_adder_1bit_B\snapshot2.png"/>
          <p:cNvPicPr/>
          <p:nvPr/>
        </p:nvPicPr>
        <p:blipFill>
          <a:blip r:embed="rId5"/>
          <a:srcRect l="27342" t="77401" r="32884" b="8905"/>
          <a:stretch/>
        </p:blipFill>
        <p:spPr>
          <a:xfrm>
            <a:off x="533520" y="434340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Gracjan\Desktop\cl_adder_1bit_B\snapshot2glitch.png"/>
          <p:cNvPicPr/>
          <p:nvPr/>
        </p:nvPicPr>
        <p:blipFill>
          <a:blip r:embed="rId6"/>
          <a:srcRect l="29044" t="78227" r="47367" b="5900"/>
          <a:stretch/>
        </p:blipFill>
        <p:spPr>
          <a:xfrm>
            <a:off x="3124080" y="4343400"/>
            <a:ext cx="2057400" cy="86688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17"/>
          <p:cNvCxnSpPr>
            <a:stCxn id="146" idx="4"/>
          </p:cNvCxnSpPr>
          <p:nvPr/>
        </p:nvCxnSpPr>
        <p:spPr>
          <a:xfrm flipH="1">
            <a:off x="1676160" y="3429000"/>
            <a:ext cx="83880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3" name="Straight Arrow Connector 18"/>
          <p:cNvCxnSpPr/>
          <p:nvPr/>
        </p:nvCxnSpPr>
        <p:spPr>
          <a:xfrm>
            <a:off x="3961440" y="3429000"/>
            <a:ext cx="19116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54" name="TextBox 20"/>
          <p:cNvSpPr/>
          <p:nvPr/>
        </p:nvSpPr>
        <p:spPr>
          <a:xfrm>
            <a:off x="6172200" y="4724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/o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 flipH="1" flipV="1">
            <a:off x="5181120" y="4776480"/>
            <a:ext cx="991440" cy="10080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6" name="Straight Arrow Connector 23"/>
          <p:cNvCxnSpPr/>
          <p:nvPr/>
        </p:nvCxnSpPr>
        <p:spPr>
          <a:xfrm flipH="1">
            <a:off x="5181120" y="5509080"/>
            <a:ext cx="991440" cy="19908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L Adder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990720"/>
            <a:ext cx="8381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 is very paralleliz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clock stage we saved about 0.5n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time for addition is input dependen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ested several combinations of inputs including the two which we deemed to be the best case and worst cas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0 + 0000 0000 0000 000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1 + 1111 1111 1111 111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125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1:38:55Z</dcterms:created>
  <dc:creator>⹅⹮⹧⹩⹮⹥⹥⹲⹩⹮⹧⹓⹴⹵⹤⹥⹮⹴ްएøˊÈ</dc:creator>
  <dc:description/>
  <cp:keywords/>
  <dc:language>en-US</dc:language>
  <cp:lastModifiedBy>Gracjan</cp:lastModifiedBy>
  <dcterms:modified xsi:type="dcterms:W3CDTF">2007-12-06T02:25:08Z</dcterms:modified>
  <cp:revision>143</cp:revision>
  <dc:subject/>
  <dc:title>EE625 Information Theory and Co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